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096-A57C-4B94-90C3-DF23B545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27F0-394D-412C-ABE7-912F12D2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C57-6764-4A52-BC34-4F8EA335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9DA-F6BA-440F-8F06-D1E8916A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F522-3234-4A5E-8E0F-38207D3F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FA5-6242-4BB2-A979-FDF034F1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83E-0080-41DA-9413-9905B6D8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59E-3D45-4387-A5AC-D0B05F91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A59-7FBB-4FD3-95E1-CC6AAD6B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C32-BDDA-4E61-A5E8-0966CE84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44F-18B2-41C8-8749-3D5738F8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EC7-00A0-4E1C-8B7E-3464AB38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3A74-1ABF-4E5D-BC98-1D4B5B334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8360" y="620640"/>
          <a:ext cx="7704000" cy="70020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1 - Ecorregiones estratégicas prioridad ambiental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611280" y="1774800"/>
          <a:ext cx="7561080" cy="1654200"/>
        </p:xfrm>
        <a:graphic>
          <a:graphicData uri="http://schemas.openxmlformats.org/drawingml/2006/table">
            <a:tbl>
              <a:tblPr/>
              <a:tblGrid>
                <a:gridCol w="7561080"/>
              </a:tblGrid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neamientos SIRAP-CARIBE/ SIN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concertada de la propuesta de un Sistema Local de Áreas Protegidas (SILAP- CARDIQUE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dentificación de riesgos en zonas con fenómenos de diapirismo de lo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9640" y="140652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Ordenamiento y manejo integrado ecorregión Canal del D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357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Ordenamiento y manejo integrado ecorregión Canal del D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11280" y="3933720"/>
          <a:ext cx="7705800" cy="2159280"/>
        </p:xfrm>
        <a:graphic>
          <a:graphicData uri="http://schemas.openxmlformats.org/drawingml/2006/table">
            <a:tbl>
              <a:tblPr/>
              <a:tblGrid>
                <a:gridCol w="770580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neamiento SIRAP - CARIBE/ SIN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concertada de la propuesta de un Sistema Regional de Áreas Protegidas (SILAP- CARDIQU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stión de proyectos ambientales de cofinanciación en el marco del POMCHC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dentificación de zonas de subsidencias para incorporar en los PLE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11280" y="476280"/>
          <a:ext cx="8064360" cy="93672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5 - Mejor gestión ambie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stión de los recursos natura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11280" y="1600200"/>
          <a:ext cx="8075520" cy="1255680"/>
        </p:xfrm>
        <a:graphic>
          <a:graphicData uri="http://schemas.openxmlformats.org/drawingml/2006/table">
            <a:tbl>
              <a:tblPr/>
              <a:tblGrid>
                <a:gridCol w="80755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neamientos para una política regional de biodivers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studios en priorización para la conservación de ecosite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xpedición botánica en los Montes de María para la articulación de los programas y proyectos del Jardín Botánico "Guillermo Piñeres"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728280" y="3357720"/>
            <a:ext cx="42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Verdana"/>
              </a:rPr>
              <a:t>Laboratorio de Calidad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90400" y="3860640"/>
          <a:ext cx="8229600" cy="1919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poyo a la Red de Calidad Agua Marina REDCA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posición y modernización de equipos de laboratorios (físico - química y microbiología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dquisición de insumos y materiales para funcionamiento del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ción de mantenimiento y calibración de equip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tener la acreditación  y ampliar los parámetros acredita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26920" y="7192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Verdana"/>
              </a:rPr>
              <a:t>Sistema de Información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73200" y="1125360"/>
          <a:ext cx="8002440" cy="2248200"/>
        </p:xfrm>
        <a:graphic>
          <a:graphicData uri="http://schemas.openxmlformats.org/drawingml/2006/table">
            <a:tbl>
              <a:tblPr/>
              <a:tblGrid>
                <a:gridCol w="8002440"/>
              </a:tblGrid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tenimiento y actualización del software para el manejo de datos espaciales del sistema de información geográfica ambiental de Cardique – Sigac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ctualización de Base de Datos y construcción de Web Services sobre ArcGIS Server y migración de base de datos CONGONA al sistema de coordenadas Magna-Sirgas, publicación de mapas a la intranet corporativa con el área de Sistema de Información Geográfica en la nueva plataforma ArcGis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1008720" y="3911760"/>
            <a:ext cx="53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Verdana"/>
              </a:rPr>
              <a:t>Consolidación del desarrollo corpor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4360" y="4292640"/>
          <a:ext cx="7991280" cy="1584360"/>
        </p:xfrm>
        <a:graphic>
          <a:graphicData uri="http://schemas.openxmlformats.org/drawingml/2006/table">
            <a:tbl>
              <a:tblPr/>
              <a:tblGrid>
                <a:gridCol w="79912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mplementación y retroalimentación del Plan Estadístico Corpor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trucción e implementación del Laboratorio para Bioensay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poyar a los municipios de la jurisdicción en su actualización catast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odernización del Centro de Documentación (salas de video, internet e infant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684360" y="5877000"/>
            <a:ext cx="799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ción Sistema de Gestión de Calidad ISO9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39640" y="476280"/>
          <a:ext cx="8218440" cy="834840"/>
        </p:xfrm>
        <a:graphic>
          <a:graphicData uri="http://schemas.openxmlformats.org/drawingml/2006/table">
            <a:tbl>
              <a:tblPr/>
              <a:tblGrid>
                <a:gridCol w="8218440"/>
              </a:tblGrid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6 - Educación ambie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esoría y apoyo a proyectos institucionales y comunit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39640" y="1646280"/>
          <a:ext cx="8137440" cy="365436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poyo en la formulación, adopción e implementación del Plan de Educación Ambiental  Departament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ompañamiento a los CID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mación y capacitación de funcionarios de los entes territor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sesoría y acompañamiento a los Comités Técnicos Interinstitucionales  de Educación Ambiental Municip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lusión de la dimensión ambiental en el desarrollo de proyectos ecoturístic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cientización y sensibilización del panorama de amenazas en los municipios con PLECs formula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vulgación de mensajes institucionales por radio comunitar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1280" y="333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Verdana"/>
              </a:rPr>
              <a:t>Construcción de una cultura ambiental desde las escuelas y la comunidad en general y su en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19280" y="1052640"/>
          <a:ext cx="8245440" cy="2985840"/>
        </p:xfrm>
        <a:graphic>
          <a:graphicData uri="http://schemas.openxmlformats.org/drawingml/2006/table">
            <a:tbl>
              <a:tblPr/>
              <a:tblGrid>
                <a:gridCol w="82454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nsibilización de las comunidades de la jurisdicción en cuanto a la preservación de las especies de fauna y flor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ción y celebración de eventos y conmemoración de fechas del calendario ambien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ción de la investigación a partir de viveros comunitari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ción para la construcción de los viveros comunit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laboración y actualización inventario de PRA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sesoría y acompañamiento a Proyectos ambientales Escola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ción y asesoría al Servicio Social Ambien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097280" y="4406760"/>
            <a:ext cx="67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Verdana"/>
              </a:rPr>
              <a:t>Formación a dinamizadores y gestores ambi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4360" y="4869000"/>
          <a:ext cx="8137440" cy="93492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ción y asesoría al Servicio Social Ambien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guimiento  de clubes de radio escolar en los municipios de la jurisdi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684360" y="5805360"/>
            <a:ext cx="813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 formación en gestión ambiental comunitaria, local y reg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6180120"/>
            <a:ext cx="813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alecimiento de proyectos comunitarios de educación ambi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30280" y="720720"/>
          <a:ext cx="8218440" cy="1400040"/>
        </p:xfrm>
        <a:graphic>
          <a:graphicData uri="http://schemas.openxmlformats.org/drawingml/2006/table">
            <a:tbl>
              <a:tblPr/>
              <a:tblGrid>
                <a:gridCol w="821844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7 - Parque Natural Distrital Ciénaga de la Vir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cuperación y conservación del Parque Natural Distrital Ciénaga de la Virgen</a:t>
                      </a: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39640" y="2516040"/>
          <a:ext cx="8136000" cy="29289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acitación en temas de educación ambiental relacion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poyo a proyectos productivos comunitari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guimiento y monitoreo de la implementación del P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de los perfiles de proyectos que conlleven al mejoramiento hidráulico y al saneamiento ambiental de los arroyos y canales que vierten hacia la Ciénaga de la Vir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terventorías de proyectos, obras o actividad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68360" y="928800"/>
          <a:ext cx="8351640" cy="69984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1 - Ecorregiones estratégicas prioridad ambiental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468360" y="16225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Ordenamiento y manejo integrado ecorregión Ciénaga de la Vi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9640" y="2133720"/>
          <a:ext cx="8209080" cy="4360680"/>
        </p:xfrm>
        <a:graphic>
          <a:graphicData uri="http://schemas.openxmlformats.org/drawingml/2006/table">
            <a:tbl>
              <a:tblPr/>
              <a:tblGrid>
                <a:gridCol w="82090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stablecimiento de la capacidad instalada institucional para la implementación del SIGAM Ins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neamiento SIRAP - CARIBE/ SIN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concertada de la propuesta de un Sistema Local de Áreas Protegidas (SILAP- CARDIQ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agnóstico erosión cost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dentificación de riesgos en zonas con fenómenos de diapirismo de lo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stión de proyectos ambientales de cofinanciación en el marco del POMCHC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ación y divulgación de los programas y proyectos del POMCA Ciénaga de la Vir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39640" y="476280"/>
          <a:ext cx="8352000" cy="820800"/>
        </p:xfrm>
        <a:graphic>
          <a:graphicData uri="http://schemas.openxmlformats.org/drawingml/2006/table">
            <a:tbl>
              <a:tblPr/>
              <a:tblGrid>
                <a:gridCol w="835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2 - Cuerpos de agua ambientalmente sa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servación de aguas superfici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11280" y="1549440"/>
          <a:ext cx="8208720" cy="2562120"/>
        </p:xfrm>
        <a:graphic>
          <a:graphicData uri="http://schemas.openxmlformats.org/drawingml/2006/table">
            <a:tbl>
              <a:tblPr/>
              <a:tblGrid>
                <a:gridCol w="82087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Zonificación de uso y manejo de la Bahía de Cartagena en convenio con el Distrito de Cartag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r Monitoreo periódico a cuerpos de agua de la jurisdicción (fase 5 y 6), decreto 1323/0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stalar algunas estaciones hidrometeorológicas o ambientales, en los sitios más adecuados, contribuirá en lo climático, ambiental y la atención y prevención de desast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studio y modelación para alerta temprana por contaminación de aguas superficiales ocasionada por derrames terrestr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12720" y="4118040"/>
          <a:ext cx="8207280" cy="155736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ción de trabajos manuales para la restauración hidrodinám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tenimiento de canales pluviales área de jurisdicción (con énfasis en los urbanos del distrito de Cartagen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sarrollo de actividades de limpieza de ciénagas y cauces de arroyos de la jurisdicción de Cardiq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55640" y="1916280"/>
          <a:ext cx="7848720" cy="249552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r Monitoreo periódico a las aguas subterráneas de la jurisdicción (fase 5 o 6), decreto 1323/0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ción de estudios de vulnerabilidad de las aguas subterrán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de PMA de las aguas subterrán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truir un índice de escasez de las aguas subterráneas, resolución 865  (costo/beneficio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755640" y="692280"/>
          <a:ext cx="7848720" cy="11476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2 - Cuerpos de agua ambientalmente sa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stión de aguas subterrán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68360" y="1052640"/>
          <a:ext cx="8351640" cy="114120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3 - Bosques y manglares como hábitat de biodivers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stión forestal y zonas verd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68360" y="2276640"/>
          <a:ext cx="8351640" cy="206676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guimiento y evaluación a los programas de compensación fores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lan piloto para la restauración boscosa en zonas afectadas por el síndrome fungal (phytoptera) en la ecorregión Montes de Marí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lan piloto para la restauración de ecosistemas de bosque seco tropic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venios para establecer viveros regionales comunitari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4340160"/>
          <a:ext cx="8351640" cy="124956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ción de seguimiento a los Permisos de Aprovechamiento Forestal (PA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ción de operativos de control y vigilancia para contrarrestar la tala indiscriminada, tráfico y comercialización de la flora n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olidación y recuperación de áreas de espacio público en la jurisdic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5280" y="549360"/>
          <a:ext cx="8424360" cy="43164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orestación productora-protector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95280" y="981000"/>
          <a:ext cx="8424720" cy="14461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forestación cuencas priorizadas de la jurisdicción con especies nativas para proteger cuencas abastecedoras de acueductos de centros poblados y cuencas de los arroyos de la jurisdicción de Card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tenimiento a reforestación año a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700560" y="3171960"/>
            <a:ext cx="622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Verdana"/>
              </a:rPr>
              <a:t>Implementación de la zonificación del mang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2200" y="3645000"/>
          <a:ext cx="8570880" cy="2838240"/>
        </p:xfrm>
        <a:graphic>
          <a:graphicData uri="http://schemas.openxmlformats.org/drawingml/2006/table">
            <a:tbl>
              <a:tblPr/>
              <a:tblGrid>
                <a:gridCol w="8570880"/>
              </a:tblGrid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de Planes de Manejo  de areas priorizadas en la zonificación de los Mangla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sarrollar un programa de educación ambiental con enfasis en la conservación del manglar en la zona cost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trucción de canales para la restauración del mang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egetalización de áreas manglár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trolar la tala indiscriminada del mang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ctualización de la zonificación de manglares de la jurisdic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mplementación del Plan de Manejo de la zonificación de los Mangla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95280" y="549360"/>
          <a:ext cx="8424360" cy="43164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servación, uso y manejo de fauna silvest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95280" y="1125360"/>
          <a:ext cx="8424720" cy="47527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agnostico sobre especies invasoras en la jurisdicción de Cardiqu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ación sobre flora y fauna silves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mplementación plan de uso y manejo de las especies babilla, caimán e hicot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poblamiento con especies ícticas 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studio de poblaciones naturales para especies amenazad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mulación programa de conserv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lan de uso y manejo de las especies babilla, caimán e hicot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seños y requerimientos de infraestructura para la construcción e implementación de un Centro de Atención y Valoración de la Fauna Silvestre en el Área de la Jurisdicción de Card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ción de operativos de control y vigilancia para contrarrestar la caza, tráfico y comercialización indiscriminada de la fauna silves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8360" y="1052640"/>
          <a:ext cx="8351640" cy="106812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4 - Sostenibilidad ambiental del desarrollo urbano y r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nejo de residuos urb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8360" y="2349360"/>
          <a:ext cx="8351640" cy="181296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52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crementar el aprovechamiento  de los residuos orgán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ver en los municipios los canales de comercialización de residuos sól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poyo a la promoción, creación y consolidación de empresas comunitarias de as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68360" y="4164120"/>
          <a:ext cx="8351280" cy="733320"/>
        </p:xfrm>
        <a:graphic>
          <a:graphicData uri="http://schemas.openxmlformats.org/drawingml/2006/table">
            <a:tbl>
              <a:tblPr/>
              <a:tblGrid>
                <a:gridCol w="835128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sarrollo de un programa de sensibilización para la separación en l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68360" y="4897440"/>
          <a:ext cx="8351640" cy="36504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guimiento en la implementación de los PGIRS municip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24000" y="469800"/>
          <a:ext cx="8351640" cy="64764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mplementación de procesos productivos limpios, urbano y rural, mercados verdes y mecanismos de desarrollo limpi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24000" y="1211400"/>
          <a:ext cx="8351640" cy="401148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seño e implementación de un software para seguimiento de actividades empresariales en la jurisdicción de Cardiq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agnóstico ambiental de plaguicidas (tipo de producto, distribuidores, uso, impacto, disposición final) en la jurisdicción de Cardiq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ventario  de fuentes fijas y móviles en el área de Mamonal y Pasacaball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izar el mapa de ruidos del área de influencia del complejo industrial de Mam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agnóstico ambiental de actividades portuarias en la Bahía de Cartagen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stablecimiento y seguimiento de convenios de producción mas limp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dentificar y actualizar nuevas fuentes generadoras de residuos peligro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mplementar estrategias de educación, concientización, control y seguimiento sobre residuos peligro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24000" y="5222880"/>
          <a:ext cx="8351640" cy="115884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mover la gestión adecuada de los aceites usados, PCBs aceites dieléctricos y Agroquímic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guimiento a entidades prestadoras de salud que disponen adecuadamente los residuos hospitalari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1:16:46Z</dcterms:created>
  <dc:creator>GONZALO POSADA</dc:creator>
  <dc:description/>
  <dc:language>en-US</dc:language>
  <cp:lastModifiedBy>GONZALO POSADA</cp:lastModifiedBy>
  <dcterms:modified xsi:type="dcterms:W3CDTF">2009-09-30T22:50:54Z</dcterms:modified>
  <cp:revision>22</cp:revision>
  <dc:subject/>
  <dc:title>Diapositiva 1</dc:title>
</cp:coreProperties>
</file>